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241-2F89-4B96-8DCA-2E14A667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7BD-6046-488D-BE2A-C681C134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9FB-98FE-4833-A40A-3854B87C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6C3-8CB5-49D2-BCB2-F1174FBA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4121-BF7E-4B8B-B93A-8A1708FC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28E-9C80-4BC5-9A1B-29EE5F3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0A74-2DEA-47EB-AFCA-CD39A3C3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7CF9-A6A9-4D41-AF4E-19B5CE56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CA6F-B06F-4224-8780-691A08EF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1F06-5379-46C8-8DCD-82D72500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AEDE-0501-447C-BFE2-FE6331F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606-C17A-4AF0-AE1E-1FB07530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29A2-132F-4BA9-81EA-CC2831D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279C-0530-480F-B6D4-9D654FC2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BE92-DCB3-4A4D-8EE7-433B2A2C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E110-2A2B-4985-8F60-AA0C053E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E36A-D86E-4943-B026-F52AB1EE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97B-6E78-4FBB-BBC2-DE7CA512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4F3-8FC9-43C8-A76E-BAF1EE87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00B-E278-453F-B103-E616E511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F8A-5FB6-4D28-B27D-737374DE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E9E-ADA8-4AB0-A301-8EB16EC2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3F3-10DD-47DF-AF54-2012A8A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D85-9811-4AE3-A3F8-A0DE5901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21F5-988A-45D1-AA58-BA5EB11AFDD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F3E-3313-4209-8721-C062496CB15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Technik%20der%20W&#228;rmepumpe%20-%20Video%20..............................mp4" TargetMode="External"/><Relationship Id="rId3" Type="http://schemas.openxmlformats.org/officeDocument/2006/relationships/hyperlink" Target="file:///F:/Technik%20der%20W&#228;rmepumpe%20-%20Video%20..............................mp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5ffff"/>
                </a:solidFill>
                <a:uFillTx/>
                <a:latin typeface="Arial"/>
              </a:rPr>
              <a:t>Wärmepumpenanlag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eressourcen scho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at von Daniel 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 – Technik 10/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1.04.20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3 Wärmequelle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Grundwass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ser wird über Förderpumpe angepum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rück über Schluckbrun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Sommer passive Kühlung mög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her Planungsauf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d, Hilfs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ch Pump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hnenswert eher fü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ße Objekte mit ho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z- und Kühlbedar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037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6.4 Wärmequelle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Luf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facher Anschluss, fast überall mög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Bohrungen nöti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Öftere Anwendung bei Altbausanieru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m Winter wenig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zient da ke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nstanten Tem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öherer Stromve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rau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rch geringe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uaufwand Kosten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spar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446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7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pump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ktionsprinzip ähnlich wie Kühlschra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ühlschrank entzieht dem Innenraum die Wär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mpe entzieht dem Außenbereich Wärme, gibt sie nach innen weiter (umgekehr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5% kostenlose Umweltwärme + 25% Antriebsener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n auch als Kühlung genutzt wer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3047760" cy="2208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09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8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Der Kreisproz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er wesentliche Prozess der Wärmepumpe besteht darin, dass ein Arbeitsmedium (Kältemittel) in einem ständigen Kreislauf seinen Aggregatzustand (flüssig bzw. gasförmig) ändert und Wärme aufnimmt bzw. abgibt. </a:t>
            </a: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Der Wärmepumpen-Kreisprozess folgt im wesentlichen dem Carnot – Proz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4365720"/>
            <a:ext cx="5667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9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Temperatur- und Druckänderung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im Kreislauf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7546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0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Die Kältemit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R 134 a, R 407 C, und Pro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Es werden Stoffe verwendet, die bei niedrigen Temp. verdampf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Gleichzeitig besitzen sie eine hohe innere 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ur Clor-freie Kältemittel zugel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R 134 a und R 407 C unbrennbar und nicht gif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Bei der Verwendung von Propan gelten Einschränkungen und Aufstellungsrichtlinien der Anl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11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Das Kälteverfahren – Carl Lind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flüssigung von Lu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ft wird komprimi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ckgefälle führt zu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kühlung des G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 unter 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depunk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wird flüss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367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1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Verdampf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3546000"/>
            <a:ext cx="7654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beitsmedium (Kältemitt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amp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zieht so der Umwelt 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gebungstemperatur kan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chaus -15°C betr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04000" y="3500280"/>
            <a:ext cx="1674720" cy="3097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916360" y="1197000"/>
            <a:ext cx="3384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2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Verdich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3499920"/>
            <a:ext cx="73548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ampftes Kältemittel wird angesaug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pf wird verdicht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it steigen Druck 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eratur des Medi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1852560" cy="287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700360" y="1268280"/>
            <a:ext cx="3527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ffff"/>
                </a:solidFill>
                <a:latin typeface="Arial"/>
              </a:rPr>
              <a:t>12.3 </a:t>
            </a:r>
            <a:r>
              <a:rPr b="1" lang="de-DE" sz="4400" spc="-1" strike="noStrike" u="sng">
                <a:solidFill>
                  <a:srgbClr val="e5ffff"/>
                </a:solidFill>
                <a:uFillTx/>
                <a:latin typeface="Arial"/>
              </a:rPr>
              <a:t>Verflüssig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3068280"/>
            <a:ext cx="800244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as gasförmige Arbeitsmedium gelangt in den Verflüssi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Umgeben vom kälteren Heiz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asser (Wärmetausc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rbeitsmedium kühlt ab u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verflüssigt si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Heizwasser wird erwärmt, 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s kälter ist als das Arbeitsmed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1763640" cy="295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987640" y="1052640"/>
            <a:ext cx="316692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Inhalt des Refera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samt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qu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uartengegenüberstellung pro/con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nbeschaffenh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dwärmequellenanlagen (Bauar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pum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 Kreisproz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tur- und Druckänderung im Kreislau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Kältemit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Kälteverfahren nach Carl Li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Komponenten der Wärmepum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nutzungsanl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ücke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llenangab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4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Expansionsventi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32846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medium entspan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her Druck -&gt; niedriger Dr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langt von dort wieder in 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damp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43640" y="3141720"/>
            <a:ext cx="233208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771640" y="1125360"/>
            <a:ext cx="3384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13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Wärmenutzungsanl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Fußbodenheizung da geringe Vor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Altbau benötigte Vorlauftemp.:   55°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ubau benötigte Vorlauftemp.: 35°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Monovalent und Bivalent einsetz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zB Gas- , Öl- oder Solaranl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14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Lückentext 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Der Kreisproz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5211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15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Quellenangab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umweltundtechnik.de/index.php?id=17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ochsner.de/die-waermepumpe/funktionsweise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weishaupt.de/mainAktion/mnAktion5/index.html/media?film=http://www.energiespar-center.info/media/wwp-tech_de.wmv&amp;width=350&amp;height=3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effiziento.de/erdwaermepumpe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de.wikipedia.org/wiki/Carl_von_Linde#Linde-Verfah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Gesamt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quellenanla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B. Erdsonde oder Erdkoll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pum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nutzungsan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ie Heiz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2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quel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rdre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arten z.B Erdsonde oder Erdkoll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Grundwas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Lu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48000" y="4005360"/>
            <a:ext cx="28083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3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pumpen Vid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F:\Technik</a:t>
            </a:r>
            <a:r>
              <a:rPr b="0" lang="de-DE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der Wärmepumpe - Video ..............................mp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36572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http://www.youtube.com/watch?v=ZSVI5lekE4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ffff"/>
                </a:solidFill>
                <a:latin typeface="Arial"/>
              </a:rPr>
              <a:t>4. </a:t>
            </a:r>
            <a:r>
              <a:rPr b="1" lang="de-DE" sz="4000" spc="-1" strike="noStrike" u="sng">
                <a:solidFill>
                  <a:srgbClr val="e5ffff"/>
                </a:solidFill>
                <a:uFillTx/>
                <a:latin typeface="Arial"/>
              </a:rPr>
              <a:t>Bauartengegenüberstellung</a:t>
            </a:r>
            <a:br>
              <a:rPr sz="4000"/>
            </a:br>
            <a:r>
              <a:rPr b="1" lang="de-DE" sz="4000" spc="-1" strike="noStrike">
                <a:solidFill>
                  <a:srgbClr val="008000"/>
                </a:solidFill>
                <a:latin typeface="Arial"/>
              </a:rPr>
              <a:t>Vor </a:t>
            </a:r>
            <a:r>
              <a:rPr b="1" lang="de-DE" sz="4000" spc="-1" strike="noStrike">
                <a:solidFill>
                  <a:srgbClr val="e5ffff"/>
                </a:solidFill>
                <a:latin typeface="Arial"/>
              </a:rPr>
              <a:t>– bzw </a:t>
            </a: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Nachtei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4920" y="1844640"/>
          <a:ext cx="9074160" cy="5097600"/>
        </p:xfrm>
        <a:graphic>
          <a:graphicData uri="http://schemas.openxmlformats.org/drawingml/2006/table">
            <a:tbl>
              <a:tblPr/>
              <a:tblGrid>
                <a:gridCol w="2305080"/>
                <a:gridCol w="2087640"/>
                <a:gridCol w="2305080"/>
                <a:gridCol w="2376360"/>
              </a:tblGrid>
              <a:tr h="59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dreich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ndwasse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f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dsond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ächen-kollekto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örderpump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ßenluft-anla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Geringer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latzbedar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onstan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Günstiger 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schaff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s Erdso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onst. 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ann nahez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überall genutz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we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e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rdausheb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ohe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lanungsaufwand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ohe   Investitionskos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Erdreich-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usheb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ilfsenerg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urch Pump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Lohnenswe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bei gr. Objek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Niedrige 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m Wi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öhere Heizko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5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Bodenbeschaffenhe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981080"/>
          <a:ext cx="8785440" cy="463248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den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zugsleistung Flächenkollek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cken sand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chter sand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20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cken lehm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– 2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chter lehm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– 30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ndwasserführend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– 3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Erdwärme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1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Bauart Erdsond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kale Erdwärmeso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inger Platzbeda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hrtiefe bei Einfamilienhäusern ca. 1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 Winter pass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ühlung mögl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medium S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221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Erdwärme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2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Bauart Erdkollekto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agerechtes großflächiges Rohr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egung unterhalb der Frostgrenze 1-1.5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-250m² Kollektorenfläche für Einfamilienh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äche kann nich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aut werden, 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 Boden Re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 Sonnenstrah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fnehmen mu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084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11:46Z</dcterms:created>
  <dc:creator>Nimmerjahn</dc:creator>
  <dc:description/>
  <dc:language>en-US</dc:language>
  <cp:lastModifiedBy>Nimmerjahn</cp:lastModifiedBy>
  <dcterms:modified xsi:type="dcterms:W3CDTF">2011-04-29T12:18:55Z</dcterms:modified>
  <cp:revision>17</cp:revision>
  <dc:subject/>
  <dc:title>Wärmepumpenanlage</dc:title>
</cp:coreProperties>
</file>